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9586-EAF2-4CA1-9BC1-20552C2F4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1CE7-4EA6-4359-B841-BE01C3D37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B22F-2B09-4CD5-8319-A16F37EC4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BAAB-0C6E-4DE0-8A37-730519C10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FF058-B297-4042-B14B-C04E4ADCF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6F4F8-F895-439A-A3F2-0F1E7784E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60692-E8A6-4098-899C-38249E879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E82F7-9FD3-4930-96F6-7976894E2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1B59A-E043-44DE-A0BB-501C360FD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97E9E-AECE-43F1-9715-DEE96264E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28C76-7B6D-4B69-8EEA-A9CE231E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593A-4D94-45A0-80CE-425360AF1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AAE98-01CE-48F5-A2A4-D6210342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00B4E-078C-4A4E-A8D1-EFDF7F2F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386C8-57B3-4064-A92E-338A82015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43604-19B3-4137-A62C-742B40434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5F8F5-ADE0-4EEB-9F56-75960EABC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DAB3-8768-4991-ABF2-EA30932AF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06C3-275F-471A-BBEF-4BB5FA59C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C5D4-F8DA-4FA2-961A-D4BA09564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BAD1-DE50-4371-B59B-223AAF632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B515-A861-42A3-BEB1-6F20845B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E041-A739-48B3-B18E-79550FA8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2618-77A7-4D10-BBAA-21FA8641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20DD-5291-4B8E-86D2-20829602526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09C48-2A72-46B1-AD4A-8FEFEFAFA0F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b7"/>
                </a:solidFill>
                <a:latin typeface="Arial Black"/>
              </a:rPr>
              <a:t>Page 5</a:t>
            </a:r>
            <a:br>
              <a:rPr sz="8000"/>
            </a:br>
            <a:r>
              <a:rPr b="1" lang="en-US" sz="8000" spc="-1" strike="noStrike">
                <a:solidFill>
                  <a:srgbClr val="ffffb7"/>
                </a:solidFill>
                <a:latin typeface="Arial Black"/>
              </a:rPr>
              <a:t>Avancemos 3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Present tense of    Regular Verb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b7"/>
                </a:solidFill>
                <a:latin typeface="Arial Black"/>
              </a:rPr>
              <a:t>COMER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Y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ú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Él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038480" y="121932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sotros   com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em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osotros    com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é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d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lo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com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l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038480" y="1447920"/>
            <a:ext cx="0" cy="4724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19320" y="4419720"/>
            <a:ext cx="838080" cy="1676160"/>
          </a:xfrm>
          <a:custGeom>
            <a:avLst/>
            <a:gdLst>
              <a:gd name="textAreaLeft" fmla="*/ 0 w 838080"/>
              <a:gd name="textAreaRight" fmla="*/ 302760 w 83808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10080" y="4495680"/>
            <a:ext cx="838440" cy="1676520"/>
          </a:xfrm>
          <a:custGeom>
            <a:avLst/>
            <a:gdLst>
              <a:gd name="textAreaLeft" fmla="*/ 0 w 838440"/>
              <a:gd name="textAreaRight" fmla="*/ 302760 w 83844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1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6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1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1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6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b7"/>
                </a:solidFill>
                <a:latin typeface="Arial Black"/>
              </a:rPr>
              <a:t>The Other -er Verb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"/>
          <p:cNvSpPr/>
          <p:nvPr/>
        </p:nvSpPr>
        <p:spPr>
          <a:xfrm>
            <a:off x="898560" y="1422360"/>
            <a:ext cx="69534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Times New Roman"/>
              </a:rPr>
              <a:t>Now let’s do the other -er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Times New Roman"/>
              </a:rPr>
              <a:t>verbs that you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Times New Roman"/>
              </a:rPr>
              <a:t>know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14600" y="3657600"/>
            <a:ext cx="5715000" cy="0"/>
          </a:xfrm>
          <a:prstGeom prst="line">
            <a:avLst/>
          </a:prstGeom>
          <a:ln w="57240">
            <a:solidFill>
              <a:srgbClr val="ffffb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8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3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8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b7"/>
                </a:solidFill>
                <a:latin typeface="Arial Black"/>
              </a:rPr>
              <a:t>BEBER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Yo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eb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ú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eb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Él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eb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l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14800" y="12193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osotros beb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em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Vosotros  beb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é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d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llo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beb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ll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1371600"/>
            <a:ext cx="0" cy="4724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19320" y="4419720"/>
            <a:ext cx="838080" cy="1676160"/>
          </a:xfrm>
          <a:custGeom>
            <a:avLst/>
            <a:gdLst>
              <a:gd name="textAreaLeft" fmla="*/ 0 w 838080"/>
              <a:gd name="textAreaRight" fmla="*/ 302760 w 83808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86400" y="4419720"/>
            <a:ext cx="838080" cy="1676160"/>
          </a:xfrm>
          <a:custGeom>
            <a:avLst/>
            <a:gdLst>
              <a:gd name="textAreaLeft" fmla="*/ 0 w 838080"/>
              <a:gd name="textAreaRight" fmla="*/ 302760 w 83808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0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0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5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0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0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b7"/>
                </a:solidFill>
                <a:latin typeface="Arial Black"/>
              </a:rPr>
              <a:t>LEER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Yo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e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ú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e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Él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e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l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114800" y="12193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osotros      le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em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Vosotros      le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é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d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llo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e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ll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9880" y="1447920"/>
            <a:ext cx="0" cy="4724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4419720"/>
            <a:ext cx="838080" cy="1676160"/>
          </a:xfrm>
          <a:custGeom>
            <a:avLst/>
            <a:gdLst>
              <a:gd name="textAreaLeft" fmla="*/ 0 w 838080"/>
              <a:gd name="textAreaRight" fmla="*/ 302760 w 83808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4495680"/>
            <a:ext cx="838080" cy="1676520"/>
          </a:xfrm>
          <a:custGeom>
            <a:avLst/>
            <a:gdLst>
              <a:gd name="textAreaLeft" fmla="*/ 0 w 838080"/>
              <a:gd name="textAreaRight" fmla="*/ 302760 w 83808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7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2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7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2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7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7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2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7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2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7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b7"/>
                </a:solidFill>
                <a:latin typeface="Arial Black"/>
              </a:rPr>
              <a:t>The Verb VER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"/>
          <p:cNvSpPr/>
          <p:nvPr/>
        </p:nvSpPr>
        <p:spPr>
          <a:xfrm>
            <a:off x="898560" y="1346040"/>
            <a:ext cx="77119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b7"/>
                </a:solidFill>
                <a:latin typeface="Times New Roman"/>
              </a:rPr>
              <a:t>You also know the verb VER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b7"/>
                </a:solidFill>
                <a:latin typeface="Times New Roman"/>
              </a:rPr>
              <a:t>it is the same as the other </a:t>
            </a:r>
            <a:r>
              <a:rPr b="1" lang="en-US" sz="4800" spc="-1" strike="noStrike">
                <a:solidFill>
                  <a:srgbClr val="ffffb7"/>
                </a:solidFill>
                <a:latin typeface="Times New Roman"/>
              </a:rPr>
              <a:t>-er</a:t>
            </a:r>
            <a:r>
              <a:rPr b="0" lang="en-US" sz="4800" spc="-1" strike="noStrike">
                <a:solidFill>
                  <a:srgbClr val="ffffb7"/>
                </a:solidFill>
                <a:latin typeface="Times New Roman"/>
              </a:rPr>
              <a:t> verbs except in the “yo” form.  It is irregular in the “yo” form.  An arrow will show you the difference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4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9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b7"/>
                </a:solidFill>
                <a:latin typeface="Arial Black"/>
              </a:rPr>
              <a:t>To SEE or To WATCH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You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he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24280" y="12193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e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y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1447920"/>
            <a:ext cx="0" cy="4800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6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1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6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1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6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1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b7"/>
                </a:solidFill>
                <a:latin typeface="Arial Black"/>
              </a:rPr>
              <a:t>VER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Yo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ve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ú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Él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l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962160" y="121932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osotro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em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Vosotros       ve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í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d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llo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ll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76560" y="405000"/>
            <a:ext cx="750600" cy="942480"/>
          </a:xfrm>
          <a:prstGeom prst="line">
            <a:avLst/>
          </a:prstGeom>
          <a:ln w="57240">
            <a:solidFill>
              <a:srgbClr val="ffffb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86200" y="1447920"/>
            <a:ext cx="0" cy="4495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8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3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8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3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8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8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3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8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3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8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b7"/>
                </a:solidFill>
                <a:latin typeface="Arial Black"/>
              </a:rPr>
              <a:t>3 Types of Verb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You’ve already learned some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-ar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verbs and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-er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verbs. Now you are going to learn some 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-ir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verb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0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836280" y="1066680"/>
            <a:ext cx="7092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e pattern for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-ir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verbs is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e exact same pattern fo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-er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verbs except for the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nosotros form: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nstead of using “emos” you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ill use “imos.”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912960" y="1143000"/>
            <a:ext cx="7310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et’s try the verb “to share,”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n Spanish, “compartir.”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2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-AR Verb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"/>
          <p:cNvSpPr/>
          <p:nvPr/>
        </p:nvSpPr>
        <p:spPr>
          <a:xfrm>
            <a:off x="822240" y="1346040"/>
            <a:ext cx="7559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You know the pattern of present-tense -ar verbs: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ese are the endings: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o, as, a, amos, áis, a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For exampl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67080" y="5486400"/>
            <a:ext cx="25909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b7"/>
                </a:solidFill>
                <a:latin typeface="Arial Black"/>
              </a:rPr>
              <a:t>TO SHAR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ha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You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ha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he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har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379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e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ha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y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ha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1447920"/>
            <a:ext cx="0" cy="4647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4267080"/>
            <a:ext cx="304560" cy="1905120"/>
          </a:xfrm>
          <a:custGeom>
            <a:avLst/>
            <a:gdLst>
              <a:gd name="textAreaLeft" fmla="*/ 0 w 304560"/>
              <a:gd name="textAreaRight" fmla="*/ 109800 w 30456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9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4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9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4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9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9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4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b7"/>
                </a:solidFill>
                <a:latin typeface="Arial Black"/>
              </a:rPr>
              <a:t>COMPARTIR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Yo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compart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ú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compart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Él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compart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l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038480" y="12952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Nosotros compart</a:t>
            </a:r>
            <a:r>
              <a:rPr b="1" lang="en-US" sz="3400" spc="-1" strike="noStrike" u="sng">
                <a:solidFill>
                  <a:srgbClr val="ffffff"/>
                </a:solidFill>
                <a:uFillTx/>
                <a:latin typeface="Arial"/>
              </a:rPr>
              <a:t>imo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osotros     compart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í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d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llos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compart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ll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038480" y="1447920"/>
            <a:ext cx="0" cy="4724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95280" y="4267080"/>
            <a:ext cx="228600" cy="1524240"/>
          </a:xfrm>
          <a:custGeom>
            <a:avLst/>
            <a:gdLst>
              <a:gd name="textAreaLeft" fmla="*/ 0 w 228600"/>
              <a:gd name="textAreaRight" fmla="*/ 82440 w 22860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4120" y="4191120"/>
            <a:ext cx="1066680" cy="1600200"/>
          </a:xfrm>
          <a:custGeom>
            <a:avLst/>
            <a:gdLst>
              <a:gd name="textAreaLeft" fmla="*/ 0 w 1066680"/>
              <a:gd name="textAreaRight" fmla="*/ 385200 w 10666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1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6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1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6" dur="5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6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1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6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1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6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898200" y="1422360"/>
            <a:ext cx="51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Times New Roman"/>
              </a:rPr>
              <a:t>Let’s review again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514600" y="3657600"/>
            <a:ext cx="5715000" cy="0"/>
          </a:xfrm>
          <a:prstGeom prst="line">
            <a:avLst/>
          </a:prstGeom>
          <a:ln w="57240">
            <a:solidFill>
              <a:srgbClr val="ffffb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8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b7"/>
                </a:solidFill>
                <a:latin typeface="Arial Black"/>
              </a:rPr>
              <a:t>COMER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Y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ú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Él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038480" y="121932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sotros   com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em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osotros    com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é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d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lo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com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l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038480" y="1447920"/>
            <a:ext cx="0" cy="4724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19320" y="4419720"/>
            <a:ext cx="838080" cy="1676160"/>
          </a:xfrm>
          <a:custGeom>
            <a:avLst/>
            <a:gdLst>
              <a:gd name="textAreaLeft" fmla="*/ 0 w 838080"/>
              <a:gd name="textAreaRight" fmla="*/ 302760 w 83808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10080" y="4495680"/>
            <a:ext cx="838440" cy="1676520"/>
          </a:xfrm>
          <a:custGeom>
            <a:avLst/>
            <a:gdLst>
              <a:gd name="textAreaLeft" fmla="*/ 0 w 838440"/>
              <a:gd name="textAreaRight" fmla="*/ 302760 w 83844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0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5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0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5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0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0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5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0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5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0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b7"/>
                </a:solidFill>
                <a:latin typeface="Arial Black"/>
              </a:rPr>
              <a:t>BEBER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Yo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eb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ú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eb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Él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eb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l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114800" y="12193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osotros beb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em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Vosotros  beb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é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d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llo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beb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ll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038480" y="1371600"/>
            <a:ext cx="0" cy="4724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19320" y="4419720"/>
            <a:ext cx="838080" cy="1676160"/>
          </a:xfrm>
          <a:custGeom>
            <a:avLst/>
            <a:gdLst>
              <a:gd name="textAreaLeft" fmla="*/ 0 w 838080"/>
              <a:gd name="textAreaRight" fmla="*/ 302760 w 83808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486400" y="4419720"/>
            <a:ext cx="838080" cy="1676160"/>
          </a:xfrm>
          <a:custGeom>
            <a:avLst/>
            <a:gdLst>
              <a:gd name="textAreaLeft" fmla="*/ 0 w 838080"/>
              <a:gd name="textAreaRight" fmla="*/ 302760 w 83808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7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2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7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2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7" dur="5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7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2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7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2" dur="5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7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b7"/>
                </a:solidFill>
                <a:latin typeface="Arial Black"/>
              </a:rPr>
              <a:t>LEER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Yo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e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ú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e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Él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e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l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114800" y="12193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osotros      le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em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Vosotros      le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é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d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llo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e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ll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09880" y="1447920"/>
            <a:ext cx="0" cy="4724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76520" y="4419720"/>
            <a:ext cx="838080" cy="1676160"/>
          </a:xfrm>
          <a:custGeom>
            <a:avLst/>
            <a:gdLst>
              <a:gd name="textAreaLeft" fmla="*/ 0 w 838080"/>
              <a:gd name="textAreaRight" fmla="*/ 302760 w 83808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86400" y="4495680"/>
            <a:ext cx="838080" cy="1676520"/>
          </a:xfrm>
          <a:custGeom>
            <a:avLst/>
            <a:gdLst>
              <a:gd name="textAreaLeft" fmla="*/ 0 w 838080"/>
              <a:gd name="textAreaRight" fmla="*/ 302760 w 83808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4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9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4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9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4" dur="50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4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9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4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9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4" dur="5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b7"/>
                </a:solidFill>
                <a:latin typeface="Arial Black"/>
              </a:rPr>
              <a:t>VER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Yo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ve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ú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Él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l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62160" y="121932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osotro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em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Vosotros       ve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í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d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llo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ll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176560" y="405000"/>
            <a:ext cx="750600" cy="942480"/>
          </a:xfrm>
          <a:prstGeom prst="line">
            <a:avLst/>
          </a:prstGeom>
          <a:ln w="57240">
            <a:solidFill>
              <a:srgbClr val="ffffb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86200" y="1447920"/>
            <a:ext cx="0" cy="4495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1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6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1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6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1" dur="5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1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6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1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6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1" dur="5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b7"/>
                </a:solidFill>
                <a:latin typeface="Arial Black"/>
              </a:rPr>
              <a:t>COMPARTIR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Yo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compart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ú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compart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Él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compart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l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038480" y="12952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Nosotros compart</a:t>
            </a:r>
            <a:r>
              <a:rPr b="1" lang="en-US" sz="3400" spc="-1" strike="noStrike" u="sng">
                <a:solidFill>
                  <a:srgbClr val="ffffff"/>
                </a:solidFill>
                <a:uFillTx/>
                <a:latin typeface="Arial"/>
              </a:rPr>
              <a:t>imo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osotros     compart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í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d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llos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compart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ll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038480" y="1447920"/>
            <a:ext cx="0" cy="4724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95280" y="4267080"/>
            <a:ext cx="228600" cy="1524240"/>
          </a:xfrm>
          <a:custGeom>
            <a:avLst/>
            <a:gdLst>
              <a:gd name="textAreaLeft" fmla="*/ 0 w 228600"/>
              <a:gd name="textAreaRight" fmla="*/ 82440 w 22860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34120" y="4191120"/>
            <a:ext cx="1066680" cy="1600200"/>
          </a:xfrm>
          <a:custGeom>
            <a:avLst/>
            <a:gdLst>
              <a:gd name="textAreaLeft" fmla="*/ 0 w 1066680"/>
              <a:gd name="textAreaRight" fmla="*/ 385200 w 10666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3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8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3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8" dur="5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3" dur="5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3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8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3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8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3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HABLAR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Yo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abl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ú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abl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Él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abl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l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419720" y="13716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osotros   habl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am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osotros    habl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á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d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llos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habl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ll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62520" y="1371600"/>
            <a:ext cx="0" cy="4495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4343400"/>
            <a:ext cx="914400" cy="1600200"/>
          </a:xfrm>
          <a:custGeom>
            <a:avLst/>
            <a:gdLst>
              <a:gd name="textAreaLeft" fmla="*/ 0 w 914400"/>
              <a:gd name="textAreaRight" fmla="*/ 330120 w 9144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4191120"/>
            <a:ext cx="914400" cy="1600200"/>
          </a:xfrm>
          <a:custGeom>
            <a:avLst/>
            <a:gdLst>
              <a:gd name="textAreaLeft" fmla="*/ 0 w 914400"/>
              <a:gd name="textAreaRight" fmla="*/ 330120 w 9144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3 Types of Verb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ere are 3 types of verbs: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nfinitives that end in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-a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nfinitives that end in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-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nfinitives that end in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-i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3 Types of Verb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You’ve already learned some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-ar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verbs, now you are going to learn some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-er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verb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Some </a:t>
            </a:r>
            <a:r>
              <a:rPr b="0" lang="en-US" sz="5400" spc="-1" strike="noStrike">
                <a:solidFill>
                  <a:srgbClr val="ffffb7"/>
                </a:solidFill>
                <a:latin typeface="Arial Black"/>
              </a:rPr>
              <a:t>-er</a:t>
            </a: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 Verb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ome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-er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verbs that you already know are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beber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le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omer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v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5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7000" y="1066680"/>
            <a:ext cx="76986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e pattern for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-er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verbs is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uch like the pattern fo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-ar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verbs.  The only differenc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s, instead of using “a” you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use “e.”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14040" y="1143000"/>
            <a:ext cx="7207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et’s try the verb “to eat,” i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panish, “comer.”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TO E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You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he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a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379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e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y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1447920"/>
            <a:ext cx="0" cy="4647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4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3T01:13:39Z</dcterms:created>
  <dc:creator>Tom Shirley</dc:creator>
  <dc:description/>
  <dc:language>en-US</dc:language>
  <cp:lastModifiedBy>Local User</cp:lastModifiedBy>
  <cp:lastPrinted>2009-04-22T19:24:48Z</cp:lastPrinted>
  <dcterms:modified xsi:type="dcterms:W3CDTF">2009-08-17T20:29:42Z</dcterms:modified>
  <cp:revision>12</cp:revision>
  <dc:subject/>
  <dc:title>PowerPoint Presentation</dc:title>
</cp:coreProperties>
</file>